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12A7-FAF5-45BA-8119-D148DA520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A57A-0A2B-4827-96C0-12666721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C7B9-741F-4B00-841A-AB07EA30D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0A04-23BD-4FE2-90D2-DA3EBE3B1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05EA-9012-4973-A684-FFCE1EC5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4BFB-4FD5-4CBE-93E9-B920CC17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4D54-9657-4DE9-93BA-20F3BECF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2E11-E370-4D7D-A1BD-E3414F44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0C20-8B26-4EE7-9F74-9B07148E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D66F-1110-4BCF-A47E-E2AD5830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D01F-88CD-4B62-A035-7EC01137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5483-97AD-46F2-8B18-39D10226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1DE6-58D7-4FB8-830F-3A60BFD3E428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Times New Roman"/>
              </a:rPr>
              <a:t>LAITTE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ikron oheislaitt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heisliitänn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irjoittim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näytö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erkkokortit ja multimedialaitt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31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krotietokonelaittei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äytt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äppäimistö ja hii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skusyksikk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skusyksikön toiminnalliset lohk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aläh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skusmuis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ajennusväyl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amuistilaitteet ja väylä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791320" y="4495680"/>
            <a:ext cx="2851200" cy="1898640"/>
            <a:chOff x="5791320" y="4495680"/>
            <a:chExt cx="2851200" cy="189864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6705720" y="4495680"/>
              <a:ext cx="1936800" cy="187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4800600"/>
              <a:ext cx="2009880" cy="1593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8T09:57:52Z</dcterms:created>
  <dc:creator>atk</dc:creator>
  <dc:description/>
  <dc:language>en-US</dc:language>
  <cp:lastModifiedBy>Kurssi</cp:lastModifiedBy>
  <dcterms:modified xsi:type="dcterms:W3CDTF">2003-02-17T11:10:50Z</dcterms:modified>
  <cp:revision>4</cp:revision>
  <dc:subject/>
  <dc:title>LAITTEET </dc:title>
</cp:coreProperties>
</file>